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0BA-7072-428B-AA14-1B0C2786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A98-D3A0-4BBE-92D7-68ED6BF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7F8-EE2B-43FC-B476-3D2EF111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C42-6448-46A7-A141-5982A3CD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666A-9796-4BEC-953D-5821EE29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3CE-AFF8-4085-8CD4-EC80702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014-182F-4664-B09F-FFA2D7D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F2D-AB94-42B1-8510-D286551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2CC-9B02-47B6-868B-AC2856B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B51-DBD6-445A-BD9B-76C01DAA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11B2-B170-4757-AD1B-31F2C62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29D-40B1-4C57-BEFA-6A83DB0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F1DC-7B09-4D77-A884-5597D67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48A-AD7F-443C-891C-7C65A161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FE3-7DB2-4B1E-B290-F3C86CC6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227-625F-47D9-B0D0-CF11421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F752-AA59-4D45-B42D-2904FCC5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A74-B1CA-41B5-99BB-8B4F6A2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415-B7D9-4931-80AD-0C06186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ED9-68D1-470D-B497-9071595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705-6891-42AE-84DD-F4F0FC7C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923-3011-48FA-9CFD-BC15578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8DD-5B42-4C98-886F-E9C797E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B8D-7699-41F7-A1D5-72947BA5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7263-CA68-4379-9D9E-520DC3DFA0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DE6-B6D5-4AE1-9BBB-BE45D3AC788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sson 4: Caring for Your Eyes and E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In the inner ear, the oval window causes the fluid in the cochlea to mov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Tiny hairs lining the cochlea vibrate in response, sending electrical messages to the auditory nerv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These messages travel to the brain, which identifies sou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ing for Your E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b17"/>
                </a:solidFill>
                <a:latin typeface="Arial Black"/>
              </a:rPr>
              <a:t>Keep volume fairly low on your radi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ibel – unit for measuring the loudness of sound wa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rmal conversation = 60 decibe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unds over 125 decibels are loud enough to be painfu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Wear ear plugs, or other hearing protection if you are going to be exposed to loud, prolonged noi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Clean the outside of your ear with a wet wash cloth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On cold days, wear earrmuffs. Cold air can irritate your middle ea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 a separate sheet of paper, draw an ey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bel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LERA – white part of the ey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PIL – Black part in the cen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RIS – colored part of your ey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Write the functions of each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*** USE PAGE 76 FOR HEL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/Clos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Identify the cornea, iris, pupil, lens, and retin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Explain what an optometrist and an ophthalmologist 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What is a decibel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o people wear sunglasses? List as many reasons as you c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r Eyes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eyes tell you about the world – about light, darkness, shapes, colors, and move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The data gathered by your eyes is interpreted by your brain, allowing you to recognize your friend coming toward you in the hall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ye – Figure 3.11, p. 7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Sclera – the white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Cornea – the clear section that lets in light at the front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Iris – colored part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Pupil – dark opening in the center of the iris 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Lens – focuses light on the retin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Retina – the light-sensing part of the inner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Optic Nerve – bundle of nerve fibers that send messages to the brain, which interprets the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ing for Your Ey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Make sure you have enough ligh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Avoid having too much light. Sit at least 6 feet away from the TV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Don’t rub your ey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otect your eyes from inju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u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ptometri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rained to examine the eyes for vision problems and to prescribe corrective le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phthalmologi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 physician who specializes in the structure, functions, and diseases of the ey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blems with 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stigmatism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n eye condition in which images are dist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arsigh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rsigh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r Ears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Allow you to hear and keep your balan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Outer ear is shaped like a cup to pick up sound waves, which are vibrations in the air. The sound waves travel through the external auditory can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In the middle ear, these waves make the eardrum vibrate. The vibrations of the eardrum move three tiny bones called the hammer, the anvil, and the stirr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These bones carry the vibrations to the oval wind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22:42Z</dcterms:created>
  <dc:creator>GSCS</dc:creator>
  <dc:description/>
  <dc:language>en-US</dc:language>
  <cp:lastModifiedBy>GSCS</cp:lastModifiedBy>
  <dcterms:modified xsi:type="dcterms:W3CDTF">2010-10-07T17:37:39Z</dcterms:modified>
  <cp:revision>7</cp:revision>
  <dc:subject/>
  <dc:title>Chapter 3</dc:title>
</cp:coreProperties>
</file>